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8FB-1F6B-4DD1-BD73-71C3BD1C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494-4D93-42C0-9BB1-1273CAAB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120-7DCE-4686-8FE2-35918A85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FCC-2EAE-460D-A633-34C418B7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7B8E-FBAE-4951-A041-4012C556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C454-277A-4234-B900-2129E4B8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4644-57F1-4699-8278-E2EDFD8C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A35A-5BE8-43D0-9462-E42DDC83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88C2-B094-46D2-B4B7-34ECB1B7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F944-2644-4F0D-9618-F7C9143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B237-562F-4ED2-8524-A9F1765F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FB0-EEE1-45C9-9D20-C8003699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1B23-9A0E-41C4-AB04-9660607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CB75-CC93-4E8D-81AA-DA4AD80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0F03-BD35-40BB-84AA-C8339E4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CFB6-B4A4-4D40-8711-3F804EB5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9A70-D513-4489-915B-1231586F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C1D-AAD2-4B90-BF38-FF3B7F2D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87F-095F-48AD-ACFC-B288BCF9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F42-80E7-413D-A59D-F101CDD3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E17-BF9B-4E94-B9D8-4E1F3A63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5FB-FA32-4BBB-819C-8FDCBAD2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EA2-C7A5-4063-A594-31F8EFD7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F71-D36D-47F9-B9EB-978AB29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621E-8C3A-40AF-BA84-9FF798DABF35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8E91-E26B-4588-BB49-F0D8146121C4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ature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8840" y="85716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8564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7610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553572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5976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2484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429160" y="428760"/>
            <a:ext cx="2428920" cy="33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143000" y="357120"/>
            <a:ext cx="2641680" cy="33289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3767040"/>
            <a:ext cx="821844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</cp:lastModifiedBy>
  <dcterms:modified xsi:type="dcterms:W3CDTF">2012-12-03T14:04:07Z</dcterms:modified>
  <cp:revision>3</cp:revision>
  <dc:subject/>
  <dc:title>Слайд 1</dc:title>
</cp:coreProperties>
</file>